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EFEF-0694-463B-86B7-D20E18C016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544E-070B-4A13-BB49-DA2F4132248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3EA5-ED04-4C34-87CC-EAE8F5A59090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D1CA-3DF8-4E6D-B9D8-2322F4FD9B3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4E53-1647-4A60-809F-E3919AF4AB87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DBD4-677D-4664-8D6C-DAFFAB70B10C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9E46-5B16-4BD4-B374-4780BF2B2F6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A17F-8795-4E92-BCDC-B45525897DD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A15F-4740-4B19-B91E-93B347B8E7F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029B-7D2D-4769-88E9-16090D685767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3A76-6842-4ED2-A88E-B9D12834B97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56CA-19C9-4A00-9BD2-B9887E7EF18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63A6-99D9-4FEA-A8A8-13F8E28ACE0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C49F-F791-4A83-BE48-92872ABE4B9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D05A-8C77-43EA-BFAD-4B4C57464C4C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7D5D-EC50-4922-B803-DF1A57DF9F8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8EC-B05C-4C6C-86CB-70D534B8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39C-9599-4332-98A4-A13C3A77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12D-C088-41AB-B1A9-BB90F9D3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351-44F9-491F-880B-DAEF8861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17D3-FC31-4CFA-83F5-F8978A42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352E-5013-4067-A1F7-C935D8C9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8F68-746E-45B9-A181-58B8B27B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9A8F-D11E-44E7-8081-45EF6029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4AEC-E7F1-4906-A3AB-CCBA97CE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D70F-6DF8-4678-A3FC-B31A3B16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7C06-7B25-4D24-94EE-8F323A5A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F6C-A796-40DD-8DED-80F3C52F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7BAA-CE61-4C6A-8C25-0EFFBC61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F4A5-51AE-4EDD-AFC6-01CF166D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805B-E5B8-4A8E-A535-752F8453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1A4B-EB7C-434E-8852-AB6E5EA2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ED72-D838-4F3F-8721-AB8FC17A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001-BFB4-4155-8DA3-4D358CE0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850-A61E-44A2-8990-D722CAD1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4F5-A462-4FD1-9D1A-D2118C24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702-C6C1-4E27-AEFB-02F8B7E1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9F4-714D-486E-BE7C-6B27B081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738-23A5-4E28-983F-6CC76EF0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1D6-719F-47F5-8C3A-F544BAE0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515C-A62D-4D3D-B223-2323BC8ED7C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EDED-E770-42F6-B874-DF0EF029215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Ecology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: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581280" y="43434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- a hierarchy of organiz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Biosph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urface of the earth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posed of many ecosyst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Ecosyste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arge or small as we decid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ackyard, O’Melveney Park, Hedge along Room 110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4" descr="globe2"/>
          <p:cNvPicPr/>
          <p:nvPr/>
        </p:nvPicPr>
        <p:blipFill>
          <a:blip r:embed="rId1"/>
          <a:stretch/>
        </p:blipFill>
        <p:spPr>
          <a:xfrm>
            <a:off x="7086600" y="2286000"/>
            <a:ext cx="1206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44953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Population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one species live in one place at one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Communit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All populations (diff. species) that live in a particular are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Picture 5" descr="levels_4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449532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Habita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physical location of communit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Organism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simplest level of organiz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Picture 4" descr="levels_4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447920" y="4648320"/>
            <a:ext cx="7315200" cy="15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Very comple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an contain 100’s to 1000’s of interacting speci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Picture 5" descr="levels_4"/>
          <p:cNvPicPr/>
          <p:nvPr/>
        </p:nvPicPr>
        <p:blipFill>
          <a:blip r:embed="rId1"/>
          <a:stretch/>
        </p:blipFill>
        <p:spPr>
          <a:xfrm>
            <a:off x="2057400" y="990720"/>
            <a:ext cx="56386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N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523520" y="4190760"/>
            <a:ext cx="691524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cology is an integrated and dynamic study of the environmen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rigin of the word…”ecology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reek origi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IKOS = househol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OGOS = study of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udy of the “house/environment” in which we 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cology is study of interactions betwee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non-living components in the environment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light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in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nutrients in soi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hea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olar radi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tmosphere, etc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D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8" descr="bd05217_"/>
          <p:cNvPicPr/>
          <p:nvPr/>
        </p:nvPicPr>
        <p:blipFill>
          <a:blip r:embed="rId1"/>
          <a:stretch/>
        </p:blipFill>
        <p:spPr>
          <a:xfrm>
            <a:off x="4495680" y="2362320"/>
            <a:ext cx="449604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Living organisms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icroorganisms in soil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Picture 10" descr="bd05223_"/>
          <p:cNvPicPr/>
          <p:nvPr/>
        </p:nvPicPr>
        <p:blipFill>
          <a:blip r:embed="rId1"/>
          <a:stretch/>
        </p:blipFill>
        <p:spPr>
          <a:xfrm>
            <a:off x="2895480" y="2971800"/>
            <a:ext cx="62485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o study Ecology involves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49604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For non-living (abioti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Climat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Hydr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Oceanograph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Physic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Chemist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Ge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soil analysis, 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181480" y="22860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029200" y="1828800"/>
            <a:ext cx="3733920" cy="40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For living (bioti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animal behavi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Taxonom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Physi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mathematics (population studi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3962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views each locale as an integrated whole of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interdependent part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that function as a un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4" descr="btundra"/>
          <p:cNvPicPr/>
          <p:nvPr/>
        </p:nvPicPr>
        <p:blipFill>
          <a:blip r:embed="rId1"/>
          <a:stretch/>
        </p:blipFill>
        <p:spPr>
          <a:xfrm>
            <a:off x="762120" y="2819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aribou"/>
          <p:cNvPicPr/>
          <p:nvPr/>
        </p:nvPicPr>
        <p:blipFill>
          <a:blip r:embed="rId2"/>
          <a:stretch/>
        </p:blipFill>
        <p:spPr>
          <a:xfrm>
            <a:off x="5410080" y="2895480"/>
            <a:ext cx="3429000" cy="2556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28600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477120" y="5486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ibo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interdependent parts are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723920" y="91404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Nonliv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dead organic mat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nutrients in the soil and water.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Producer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green plan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Picture 4" descr="btundra"/>
          <p:cNvPicPr/>
          <p:nvPr/>
        </p:nvPicPr>
        <p:blipFill>
          <a:blip r:embed="rId1"/>
          <a:stretch/>
        </p:blipFill>
        <p:spPr>
          <a:xfrm>
            <a:off x="685800" y="10666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752480" y="4191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800240" y="91440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Consumer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herbivores and carnivor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Decompos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fungi and bacteria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3" descr="btundra"/>
          <p:cNvPicPr/>
          <p:nvPr/>
        </p:nvPicPr>
        <p:blipFill>
          <a:blip r:embed="rId1"/>
          <a:stretch/>
        </p:blipFill>
        <p:spPr>
          <a:xfrm>
            <a:off x="685800" y="10666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aribou"/>
          <p:cNvPicPr/>
          <p:nvPr/>
        </p:nvPicPr>
        <p:blipFill>
          <a:blip r:embed="rId2"/>
          <a:stretch/>
        </p:blipFill>
        <p:spPr>
          <a:xfrm>
            <a:off x="5334120" y="3962520"/>
            <a:ext cx="342900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1337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58128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ibo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4:31:59Z</dcterms:created>
  <dc:creator>Charlene Hisayasu</dc:creator>
  <dc:description/>
  <dc:language>en-US</dc:language>
  <cp:lastModifiedBy>RK</cp:lastModifiedBy>
  <dcterms:modified xsi:type="dcterms:W3CDTF">2015-12-11T14:27:48Z</dcterms:modified>
  <cp:revision>32</cp:revision>
  <dc:subject/>
  <dc:title>What is Ecology?</dc:title>
</cp:coreProperties>
</file>